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10691813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3236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HG-MinchoL-Sun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91880" y="861480"/>
            <a:ext cx="85136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91880" y="2261880"/>
            <a:ext cx="851364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91880" y="4511520"/>
            <a:ext cx="851364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91880" y="861480"/>
            <a:ext cx="85136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91880" y="2261880"/>
            <a:ext cx="415440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54360" y="2261880"/>
            <a:ext cx="415440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91880" y="4511520"/>
            <a:ext cx="415440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454360" y="4511520"/>
            <a:ext cx="415440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1880" y="861480"/>
            <a:ext cx="85136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1880" y="2261880"/>
            <a:ext cx="274104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70440" y="2261880"/>
            <a:ext cx="274104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9000" y="2261880"/>
            <a:ext cx="274104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91880" y="4511520"/>
            <a:ext cx="274104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970440" y="4511520"/>
            <a:ext cx="274104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849000" y="4511520"/>
            <a:ext cx="274104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91880" y="861480"/>
            <a:ext cx="85136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91880" y="2261880"/>
            <a:ext cx="851364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91880" y="861480"/>
            <a:ext cx="85136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1880" y="2261880"/>
            <a:ext cx="851364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91880" y="861480"/>
            <a:ext cx="85136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91880" y="2261880"/>
            <a:ext cx="41544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54360" y="2261880"/>
            <a:ext cx="41544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91880" y="861480"/>
            <a:ext cx="85136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091880" y="861480"/>
            <a:ext cx="851364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91880" y="861480"/>
            <a:ext cx="85136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1880" y="2261880"/>
            <a:ext cx="415440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54360" y="2261880"/>
            <a:ext cx="41544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1880" y="4511520"/>
            <a:ext cx="415440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91880" y="861480"/>
            <a:ext cx="85136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91880" y="2261880"/>
            <a:ext cx="851364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1880" y="861480"/>
            <a:ext cx="85136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91880" y="2261880"/>
            <a:ext cx="41544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4360" y="2261880"/>
            <a:ext cx="415440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454360" y="4511520"/>
            <a:ext cx="415440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1880" y="861480"/>
            <a:ext cx="85136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91880" y="2261880"/>
            <a:ext cx="415440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54360" y="2261880"/>
            <a:ext cx="415440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91880" y="4511520"/>
            <a:ext cx="851364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91880" y="861480"/>
            <a:ext cx="85136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91880" y="2261880"/>
            <a:ext cx="851364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091880" y="4511520"/>
            <a:ext cx="851364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1880" y="861480"/>
            <a:ext cx="85136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91880" y="2261880"/>
            <a:ext cx="415440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54360" y="2261880"/>
            <a:ext cx="415440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91880" y="4511520"/>
            <a:ext cx="415440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454360" y="4511520"/>
            <a:ext cx="415440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1880" y="861480"/>
            <a:ext cx="85136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91880" y="2261880"/>
            <a:ext cx="274104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70440" y="2261880"/>
            <a:ext cx="274104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9000" y="2261880"/>
            <a:ext cx="274104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091880" y="4511520"/>
            <a:ext cx="274104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70440" y="4511520"/>
            <a:ext cx="274104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849000" y="4511520"/>
            <a:ext cx="274104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91880" y="861480"/>
            <a:ext cx="85136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91880" y="2261880"/>
            <a:ext cx="851364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1880" y="861480"/>
            <a:ext cx="85136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91880" y="2261880"/>
            <a:ext cx="41544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454360" y="2261880"/>
            <a:ext cx="41544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1880" y="861480"/>
            <a:ext cx="85136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91880" y="861480"/>
            <a:ext cx="851364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1880" y="861480"/>
            <a:ext cx="85136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1880" y="2261880"/>
            <a:ext cx="415440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54360" y="2261880"/>
            <a:ext cx="41544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91880" y="4511520"/>
            <a:ext cx="415440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91880" y="861480"/>
            <a:ext cx="85136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91880" y="2261880"/>
            <a:ext cx="41544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54360" y="2261880"/>
            <a:ext cx="415440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454360" y="4511520"/>
            <a:ext cx="415440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91880" y="861480"/>
            <a:ext cx="85136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91880" y="2261880"/>
            <a:ext cx="415440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54360" y="2261880"/>
            <a:ext cx="415440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91880" y="4511520"/>
            <a:ext cx="851364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1880" y="465120"/>
            <a:ext cx="85136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HG-MinchoL-Sun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HG-MinchoL-Su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6760" y="2371680"/>
            <a:ext cx="838512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HG-MinchoL-Su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HG-MinchoL-Sun"/>
            </a:endParaRPr>
          </a:p>
          <a:p>
            <a:pPr lvl="1"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HG-MinchoL-Su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HG-MinchoL-Sun"/>
            </a:endParaRPr>
          </a:p>
          <a:p>
            <a:pPr lvl="2"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HG-MinchoL-Su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HG-MinchoL-Sun"/>
            </a:endParaRPr>
          </a:p>
          <a:p>
            <a:pPr lvl="3"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HG-MinchoL-Su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HG-MinchoL-Sun"/>
            </a:endParaRPr>
          </a:p>
          <a:p>
            <a:pPr lvl="4"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HG-MinchoL-Su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HG-MinchoL-Sun"/>
            </a:endParaRPr>
          </a:p>
          <a:p>
            <a:pPr lvl="5"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HG-MinchoL-Su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HG-MinchoL-Sun"/>
            </a:endParaRPr>
          </a:p>
          <a:p>
            <a:pPr lvl="6"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HG-MinchoL-Su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HG-MinchoL-Su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211960" y="6016680"/>
            <a:ext cx="1947960" cy="95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760320" y="2073240"/>
            <a:ext cx="9570960" cy="512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1880" y="861480"/>
            <a:ext cx="851364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HG-MinchoL-Sun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91880" y="2261880"/>
            <a:ext cx="851364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-MinchoL-Su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  <a:p>
            <a:pPr lvl="1"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-MinchoL-Su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  <a:p>
            <a:pPr lvl="2"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-MinchoL-Su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  <a:p>
            <a:pPr lvl="3"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-MinchoL-Su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  <a:p>
            <a:pPr lvl="4"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-MinchoL-Su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  <a:p>
            <a:pPr lvl="5"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-MinchoL-Su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  <a:p>
            <a:pPr lvl="6"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-MinchoL-Su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42" name=""/>
          <p:cNvSpPr/>
          <p:nvPr/>
        </p:nvSpPr>
        <p:spPr>
          <a:xfrm>
            <a:off x="360360" y="360360"/>
            <a:ext cx="179280" cy="830160"/>
          </a:xfrm>
          <a:custGeom>
            <a:avLst/>
            <a:gdLst>
              <a:gd name="textAreaLeft" fmla="*/ 360 w 179280"/>
              <a:gd name="textAreaRight" fmla="*/ 178920 w 179280"/>
              <a:gd name="textAreaTop" fmla="*/ 360 h 830160"/>
              <a:gd name="textAreaBottom" fmla="*/ 829800 h 830160"/>
            </a:gdLst>
            <a:ahLst/>
            <a:rect l="textAreaLeft" t="textAreaTop" r="textAreaRight" b="textAreaBottom"/>
            <a:pathLst>
              <a:path w="21600" h="99862">
                <a:moveTo>
                  <a:pt x="192" y="0"/>
                </a:moveTo>
                <a:arcTo wR="192" hR="192" stAng="16200000" swAng="-5400000"/>
                <a:lnTo>
                  <a:pt x="0" y="99670"/>
                </a:lnTo>
                <a:arcTo wR="192" hR="192" stAng="10800000" swAng="-5400000"/>
                <a:lnTo>
                  <a:pt x="21408" y="99862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43" name=""/>
          <p:cNvSpPr/>
          <p:nvPr/>
        </p:nvSpPr>
        <p:spPr>
          <a:xfrm>
            <a:off x="360360" y="2514600"/>
            <a:ext cx="179280" cy="830160"/>
          </a:xfrm>
          <a:custGeom>
            <a:avLst/>
            <a:gdLst>
              <a:gd name="textAreaLeft" fmla="*/ 360 w 179280"/>
              <a:gd name="textAreaRight" fmla="*/ 178920 w 179280"/>
              <a:gd name="textAreaTop" fmla="*/ 360 h 830160"/>
              <a:gd name="textAreaBottom" fmla="*/ 829800 h 830160"/>
            </a:gdLst>
            <a:ahLst/>
            <a:rect l="textAreaLeft" t="textAreaTop" r="textAreaRight" b="textAreaBottom"/>
            <a:pathLst>
              <a:path w="21600" h="99862">
                <a:moveTo>
                  <a:pt x="192" y="0"/>
                </a:moveTo>
                <a:arcTo wR="192" hR="192" stAng="16200000" swAng="-5400000"/>
                <a:lnTo>
                  <a:pt x="0" y="99670"/>
                </a:lnTo>
                <a:arcTo wR="192" hR="192" stAng="10800000" swAng="-5400000"/>
                <a:lnTo>
                  <a:pt x="21408" y="99862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44" name=""/>
          <p:cNvSpPr/>
          <p:nvPr/>
        </p:nvSpPr>
        <p:spPr>
          <a:xfrm>
            <a:off x="360360" y="1417680"/>
            <a:ext cx="179280" cy="830160"/>
          </a:xfrm>
          <a:custGeom>
            <a:avLst/>
            <a:gdLst>
              <a:gd name="textAreaLeft" fmla="*/ 360 w 179280"/>
              <a:gd name="textAreaRight" fmla="*/ 178920 w 179280"/>
              <a:gd name="textAreaTop" fmla="*/ 360 h 830160"/>
              <a:gd name="textAreaBottom" fmla="*/ 829800 h 830160"/>
            </a:gdLst>
            <a:ahLst/>
            <a:rect l="textAreaLeft" t="textAreaTop" r="textAreaRight" b="textAreaBottom"/>
            <a:pathLst>
              <a:path w="21600" h="99862">
                <a:moveTo>
                  <a:pt x="192" y="0"/>
                </a:moveTo>
                <a:arcTo wR="192" hR="192" stAng="16200000" swAng="-5400000"/>
                <a:lnTo>
                  <a:pt x="0" y="99670"/>
                </a:lnTo>
                <a:arcTo wR="192" hR="192" stAng="10800000" swAng="-5400000"/>
                <a:lnTo>
                  <a:pt x="21408" y="99862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432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ja-JP" sz="4400" spc="-1" strike="noStrike">
                <a:solidFill>
                  <a:srgbClr val="333333"/>
                </a:solidFill>
                <a:latin typeface="HG-MinchoL-Sun"/>
              </a:rPr>
              <a:t>ゲームタイトル</a:t>
            </a: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092240" y="2862360"/>
            <a:ext cx="4156200" cy="31068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455800" y="2262240"/>
            <a:ext cx="41562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4284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-MinchoL-Sun"/>
              </a:rPr>
              <a:t>ジャンル：アクション</a:t>
            </a:r>
            <a:endParaRPr b="0" lang="en-US" sz="2000" spc="-1" strike="noStrike">
              <a:solidFill>
                <a:srgbClr val="000000"/>
              </a:solidFill>
              <a:latin typeface="HG-MinchoL-Sun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-MinchoL-Sun"/>
              </a:rPr>
              <a:t>操作説明：我はダビデの枝葉、輝く明けの明星。</a:t>
            </a:r>
            <a:endParaRPr b="0" lang="en-US" sz="2000" spc="-1" strike="noStrike">
              <a:solidFill>
                <a:srgbClr val="000000"/>
              </a:solidFill>
              <a:latin typeface="HG-MinchoL-Sun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-MinchoL-Sun"/>
              </a:rPr>
              <a:t>　我は始まりにして終わりのもの。</a:t>
            </a:r>
            <a:endParaRPr b="0" lang="en-US" sz="2000" spc="-1" strike="noStrike">
              <a:solidFill>
                <a:srgbClr val="000000"/>
              </a:solidFill>
              <a:latin typeface="HG-MinchoL-Sun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-MinchoL-Sun"/>
              </a:rPr>
              <a:t>　来たりませ来たりませ。</a:t>
            </a:r>
            <a:endParaRPr b="0" lang="en-US" sz="2000" spc="-1" strike="noStrike">
              <a:solidFill>
                <a:srgbClr val="000000"/>
              </a:solidFill>
              <a:latin typeface="HG-MinchoL-Sun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-MinchoL-Sun"/>
              </a:rPr>
              <a:t>　然り、我はすぐに来る。</a:t>
            </a:r>
            <a:endParaRPr b="0" lang="en-US" sz="2000" spc="-1" strike="noStrike">
              <a:solidFill>
                <a:srgbClr val="000000"/>
              </a:solidFill>
              <a:latin typeface="HG-MinchoL-Sun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000" spc="-1" strike="noStrike">
              <a:solidFill>
                <a:srgbClr val="000000"/>
              </a:solidFill>
              <a:latin typeface="HG-MinchoL-Sun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-MinchoL-Sun"/>
              </a:rPr>
              <a:t>　十字キー：移動</a:t>
            </a:r>
            <a:endParaRPr b="0" lang="en-US" sz="2000" spc="-1" strike="noStrike">
              <a:solidFill>
                <a:srgbClr val="000000"/>
              </a:solidFill>
              <a:latin typeface="HG-MinchoL-Sun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-MinchoL-Sun"/>
              </a:rPr>
              <a:t> ◯</a:t>
            </a:r>
            <a:r>
              <a:rPr b="0" lang="ja-JP" sz="2000" spc="-1" strike="noStrike">
                <a:solidFill>
                  <a:srgbClr val="000000"/>
                </a:solidFill>
                <a:latin typeface="HG-MinchoL-Sun"/>
              </a:rPr>
              <a:t>ボタン、</a:t>
            </a:r>
            <a:r>
              <a:rPr b="0" lang="ja-JP" sz="2000" spc="-1" strike="noStrike">
                <a:solidFill>
                  <a:srgbClr val="000000"/>
                </a:solidFill>
                <a:latin typeface="HG-MinchoL-Sun"/>
              </a:rPr>
              <a:t>Z</a:t>
            </a:r>
            <a:r>
              <a:rPr b="0" lang="ja-JP" sz="2000" spc="-1" strike="noStrike">
                <a:solidFill>
                  <a:srgbClr val="000000"/>
                </a:solidFill>
                <a:latin typeface="HG-MinchoL-Sun"/>
              </a:rPr>
              <a:t>キー：ジャンプ</a:t>
            </a:r>
            <a:endParaRPr b="0" lang="en-US" sz="2000" spc="-1" strike="noStrike">
              <a:solidFill>
                <a:srgbClr val="000000"/>
              </a:solidFill>
              <a:latin typeface="HG-MinchoL-Sun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-MinchoL-Sun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HG-MinchoL-Sun"/>
              </a:rPr>
              <a:t>×</a:t>
            </a:r>
            <a:r>
              <a:rPr b="0" lang="ja-JP" sz="2000" spc="-1" strike="noStrike">
                <a:solidFill>
                  <a:srgbClr val="000000"/>
                </a:solidFill>
                <a:latin typeface="HG-MinchoL-Sun"/>
              </a:rPr>
              <a:t>ボタン、</a:t>
            </a:r>
            <a:r>
              <a:rPr b="0" lang="ja-JP" sz="2000" spc="-1" strike="noStrike">
                <a:solidFill>
                  <a:srgbClr val="000000"/>
                </a:solidFill>
                <a:latin typeface="HG-MinchoL-Sun"/>
              </a:rPr>
              <a:t>X</a:t>
            </a:r>
            <a:r>
              <a:rPr b="0" lang="ja-JP" sz="2000" spc="-1" strike="noStrike">
                <a:solidFill>
                  <a:srgbClr val="000000"/>
                </a:solidFill>
                <a:latin typeface="HG-MinchoL-Sun"/>
              </a:rPr>
              <a:t>キー：自爆</a:t>
            </a:r>
            <a:endParaRPr b="0" lang="en-US" sz="2000" spc="-1" strike="noStrike">
              <a:solidFill>
                <a:srgbClr val="000000"/>
              </a:solidFill>
              <a:latin typeface="HG-MinchoL-Sun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-MinchoL-Sun"/>
              </a:rPr>
              <a:t>　△ボタン、</a:t>
            </a:r>
            <a:r>
              <a:rPr b="0" lang="ja-JP" sz="2000" spc="-1" strike="noStrike">
                <a:solidFill>
                  <a:srgbClr val="000000"/>
                </a:solidFill>
                <a:latin typeface="HG-MinchoL-Sun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HG-MinchoL-Sun"/>
              </a:rPr>
              <a:t>キー：うばら</a:t>
            </a:r>
            <a:endParaRPr b="0" lang="en-US" sz="2000" spc="-1" strike="noStrike">
              <a:solidFill>
                <a:srgbClr val="000000"/>
              </a:solidFill>
              <a:latin typeface="HG-MinchoL-Sun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-MinchoL-Sun"/>
              </a:rPr>
              <a:t>　□ボタン、</a:t>
            </a:r>
            <a:r>
              <a:rPr b="0" lang="ja-JP" sz="2000" spc="-1" strike="noStrike">
                <a:solidFill>
                  <a:srgbClr val="000000"/>
                </a:solidFill>
                <a:latin typeface="HG-MinchoL-Sun"/>
              </a:rPr>
              <a:t>V</a:t>
            </a:r>
            <a:r>
              <a:rPr b="0" lang="ja-JP" sz="2000" spc="-1" strike="noStrike">
                <a:solidFill>
                  <a:srgbClr val="000000"/>
                </a:solidFill>
                <a:latin typeface="HG-MinchoL-Sun"/>
              </a:rPr>
              <a:t>キー：ふぁふぁふぁ</a:t>
            </a:r>
            <a:endParaRPr b="0" lang="en-US" sz="2000" spc="-1" strike="noStrike">
              <a:solidFill>
                <a:srgbClr val="000000"/>
              </a:solidFill>
              <a:latin typeface="HG-MinchoL-Sun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-MinchoL-Sun"/>
              </a:rPr>
              <a:t>製作者：ｎ学部ｎ年ｎ学科</a:t>
            </a:r>
            <a:endParaRPr b="0" lang="en-US" sz="2000" spc="-1" strike="noStrike">
              <a:solidFill>
                <a:srgbClr val="000000"/>
              </a:solidFill>
              <a:latin typeface="HG-MinchoL-Sun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-MinchoL-Sun"/>
              </a:rPr>
              <a:t>　苗字名前</a:t>
            </a:r>
            <a:endParaRPr b="0" lang="en-US" sz="20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09:52:54Z</dcterms:created>
  <dc:creator/>
  <dc:description>発展に向けての戦略法を提案します</dc:description>
  <dc:language>en-US</dc:language>
  <cp:lastModifiedBy/>
  <dcterms:modified xsi:type="dcterms:W3CDTF">2010-11-17T10:00:10Z</dcterms:modified>
  <cp:revision>2</cp:revision>
  <dc:subject/>
  <dc:title>戦略法の提案</dc:title>
</cp:coreProperties>
</file>